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A85-53A4-48EB-B6BB-A95D8C5E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CAB-9D2E-4C73-ACFE-994D9F3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217-5A55-42C0-A810-47CC1B62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D0A-745D-4789-80D5-E23056BD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371-C3E8-4EBF-98A1-7F292BF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A63-8649-416B-8886-76A5A9D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EED81-968D-4569-A0ED-8BA7BEF7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3D53F-3AF8-42F6-BED4-1ACCC969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02C9F-1572-46FA-A894-89F5F920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F04-D1A6-42D9-8DA1-8A12DB7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9EA30-0800-436D-87D3-6B83176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F0FC7-7C66-4919-BCAA-7158B0FE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A3BD1-656E-43C9-B45C-0555181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1D5C2-1378-4DD8-B94E-71B6EEA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D14F1-EC14-4AF0-A375-17C156C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7371A-7DD5-4A7A-ACE4-6108665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2FF3F-2214-4311-ADD4-8DA2A09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55CE7-5D82-4AC0-A574-E5C4DBFB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30188-6C1F-4C17-846C-6BB252EE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2E8-31E0-4BB0-968A-AED71B9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51A-1F6F-4938-B919-1F920AA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3DB-15F9-44E4-AB76-9449CE9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C33-281E-4332-BA06-297213E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9C5-65D5-4AA0-BB2B-BCC9445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7727-D6B8-4FC3-8147-7A3A6E634525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8A3-0F98-4356-93BF-94AFF856218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DA3-D5A3-4A63-B446-480CD8F96F0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DCB-E9C8-46B0-AED5-4D9496C54B9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B30-783A-4E21-8B15-882D05C5115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407-A8DA-4735-BC53-0FD6A8CE2E2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A37-E9FA-4A43-BD38-5BFC3C76BA8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3B4-1A73-4A84-9E0C-C9AA9979B3D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BAD-6A30-4C69-8A7F-370358D08A8C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675-8BF4-48DE-B7F1-651088899FA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9E7-CF0E-47AD-9461-81C6DDC094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914-8631-4AFE-8D0B-D4F53EFE588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EE2-61FB-4E4D-BD49-C4C23F2B5C6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53C-D860-4920-B77E-2CD6EB3EC0B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C82-CCE9-4763-87EE-D4CF3B703CD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B825-2A6B-4C72-955B-1EF99046061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 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Web Applications – Aj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: recuperaD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27080" y="836280"/>
            <a:ext cx="7866000" cy="54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recupera i dati dal form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cuperaDati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orm = document.forms['form'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 nome = form.nome.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lore = 'nome=' + escape(no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turn valo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Questa funzione viene richiamata dall'oggetto xmlHttpReq per l'aggiornamento asincrono dell'elemento risult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tringa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document.getElementById("risultato").innerHTML = strin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sultat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Immagine 2" descr=""/>
          <p:cNvPicPr/>
          <p:nvPr/>
        </p:nvPicPr>
        <p:blipFill>
          <a:blip r:embed="rId1"/>
          <a:stretch/>
        </p:blipFill>
        <p:spPr>
          <a:xfrm>
            <a:off x="1428840" y="1268280"/>
            <a:ext cx="69451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rodu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41528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ronimo d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ynchronous JavaScript and 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è un framework di sviluppo per realizzare Web applications interat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viluppo di applicazioni con AJAX si basa su uno scambio di dati in background fra client (browser ) e server, che consente l'aggiornamento dinamico di una pagina web senza esplicito ricaricamento da parte dell'u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è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incro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senso che i dati extra sono richiesti al server e caricati in background senza interferire con il comportamento della pagina esist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malmente le funzioni richiamate sono scritte con il linguaggio JavaScript (non è però obbligato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di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44360" y="1196640"/>
            <a:ext cx="7630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tradizionale Client-Ser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Connettore 2 2"/>
          <p:cNvCxnSpPr/>
          <p:nvPr/>
        </p:nvCxnSpPr>
        <p:spPr>
          <a:xfrm flipV="1">
            <a:off x="2509560" y="2071440"/>
            <a:ext cx="2391480" cy="1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4" name="Connettore 2 8"/>
          <p:cNvCxnSpPr>
            <a:endCxn id="625" idx="6"/>
          </p:cNvCxnSpPr>
          <p:nvPr/>
        </p:nvCxnSpPr>
        <p:spPr>
          <a:xfrm flipH="1">
            <a:off x="2699640" y="2205000"/>
            <a:ext cx="2159640" cy="28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6" name="Connettore 2 10"/>
          <p:cNvCxnSpPr/>
          <p:nvPr/>
        </p:nvCxnSpPr>
        <p:spPr>
          <a:xfrm flipV="1">
            <a:off x="2700360" y="2678040"/>
            <a:ext cx="2239200" cy="30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27" name="Connettore 2 12"/>
          <p:cNvCxnSpPr>
            <a:stCxn id="628" idx="3"/>
          </p:cNvCxnSpPr>
          <p:nvPr/>
        </p:nvCxnSpPr>
        <p:spPr>
          <a:xfrm flipH="1">
            <a:off x="2509200" y="2755440"/>
            <a:ext cx="2540520" cy="313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29" name="CasellaDiTesto 13"/>
          <p:cNvSpPr/>
          <p:nvPr/>
        </p:nvSpPr>
        <p:spPr>
          <a:xfrm>
            <a:off x="3348000" y="17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sellaDiTesto 18"/>
          <p:cNvSpPr/>
          <p:nvPr/>
        </p:nvSpPr>
        <p:spPr>
          <a:xfrm>
            <a:off x="334800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Connettore 2 19"/>
          <p:cNvCxnSpPr/>
          <p:nvPr/>
        </p:nvCxnSpPr>
        <p:spPr>
          <a:xfrm flipV="1">
            <a:off x="2626920" y="4436280"/>
            <a:ext cx="2274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32" name="Connettore 2 15"/>
          <p:cNvCxnSpPr/>
          <p:nvPr/>
        </p:nvCxnSpPr>
        <p:spPr>
          <a:xfrm flipH="1">
            <a:off x="2699640" y="4868640"/>
            <a:ext cx="21596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633" name="CasellaDiTesto 23"/>
          <p:cNvSpPr/>
          <p:nvPr/>
        </p:nvSpPr>
        <p:spPr>
          <a:xfrm>
            <a:off x="3419640" y="4067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sellaDiTesto 24"/>
          <p:cNvSpPr/>
          <p:nvPr/>
        </p:nvSpPr>
        <p:spPr>
          <a:xfrm>
            <a:off x="341964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e 16"/>
          <p:cNvSpPr/>
          <p:nvPr/>
        </p:nvSpPr>
        <p:spPr>
          <a:xfrm>
            <a:off x="1403280" y="1773360"/>
            <a:ext cx="129708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e 30"/>
          <p:cNvSpPr/>
          <p:nvPr/>
        </p:nvSpPr>
        <p:spPr>
          <a:xfrm>
            <a:off x="4859280" y="1773360"/>
            <a:ext cx="1297080" cy="1150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asellaDiTesto 35"/>
          <p:cNvSpPr/>
          <p:nvPr/>
        </p:nvSpPr>
        <p:spPr>
          <a:xfrm>
            <a:off x="1547640" y="2197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CasellaDiTesto 36"/>
          <p:cNvSpPr/>
          <p:nvPr/>
        </p:nvSpPr>
        <p:spPr>
          <a:xfrm>
            <a:off x="5003640" y="21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e 37"/>
          <p:cNvSpPr/>
          <p:nvPr/>
        </p:nvSpPr>
        <p:spPr>
          <a:xfrm>
            <a:off x="1403280" y="4076640"/>
            <a:ext cx="129708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e 38"/>
          <p:cNvSpPr/>
          <p:nvPr/>
        </p:nvSpPr>
        <p:spPr>
          <a:xfrm>
            <a:off x="4859280" y="4076640"/>
            <a:ext cx="1297080" cy="115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asellaDiTesto 41"/>
          <p:cNvSpPr/>
          <p:nvPr/>
        </p:nvSpPr>
        <p:spPr>
          <a:xfrm>
            <a:off x="1547640" y="4572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asellaDiTesto 42"/>
          <p:cNvSpPr/>
          <p:nvPr/>
        </p:nvSpPr>
        <p:spPr>
          <a:xfrm>
            <a:off x="4932360" y="4500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aratteristi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7920" y="148428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JA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e richieste vengono gestite in modo trasparente all’utente e senza un aggiornamento fisico dell’intera pagina, ma solo una porzione della stessa, senza dare all’utente l’impressione di essere in attesa di una risposta dal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gestire questo tipo di richieste è l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MLHttpReques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permette l’invio e la recezione di informazioni vi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Get o Pos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JAX può essere abbinato all’uso di tecnologie server side (ese. scrip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P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permettere alle richieste di sfruttare risorse server (es. eseguire query su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ataba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.1: Form di benvenu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6964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!-- Ad ogni submit del form viene richiamata la funzione xmlhttpPost che riceve il nome di un file PHP (script.ph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form name="form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nSubmit="javascript:xmlhttpPost(‘script.php'); return false;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p&gt;Digita il tuo n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name="nome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tex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input value="Invia"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ype="submi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div id="risultato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le script.ph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16000" y="123336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/*Script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$nome = $_POST['nome'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echo "&lt;p&gt;Benvenuto &lt;strong&gt;$nome&lt;/strong!&lt;/p&gt;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Javascript: xmlhttpP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3600" y="1142640"/>
            <a:ext cx="777240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&lt;script language="Javascrip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Funzione per la gestione asincrona 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fun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Post(str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Inizializzo l'oggetto xmlHttp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 = th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ozilla/Safari, utilizzeremo l'oggetto XMLHttpRequest per lo scambio di dati tra browser 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XMLHttp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XMLHttpReques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 Se il Browser è Microsoft (IE), utilizzeremo Microsoft.XML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l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window.ActiveXObjec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 = ne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ctiveXObject("Microsoft.XMLHTT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Apro il canale di connessione per regolare il tipo di richi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Passo come parametri il tipo di richiesta, url e s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o meno un operazione asincrona (isAsy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pen('POST', strURL, 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tto l'header dell'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tRequestHeader('Content-Type', 'application/x-www-form-urlencoded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Passo alla richiesta i valori del form in modo da generare l'output desiderato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send(recuperaValor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J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cript xmlhttpPost (continu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20680" y="980640"/>
            <a:ext cx="7772400" cy="52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Valuto lo stato della richiesta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elf.xmlHttpReq.onreadystatechange = fun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Gli stati di una richiesta possono esser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0 - UN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1 -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2 -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3 -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 4 - COMPLETE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/Se lo sta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f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self.xmlHttpReq.readyState == 4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/* Aggiorno la pagina con la risposta ritornata dalla precendete richiesta dal web server.Quando 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terminata il responso della richiest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disponibie come responseText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aggiornaPagina(self.xmlHttpReq.response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} (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21:19Z</dcterms:modified>
  <cp:revision>141</cp:revision>
  <dc:subject/>
  <dc:title>Corso di Ingegneria del Web A A. 2014 2015  Domenico Rosaci  Linguaggi di Scripting</dc:title>
</cp:coreProperties>
</file>